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260-89AE-48A1-9527-A66D241E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E3F-F061-4AB6-984D-2120503F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688-D750-44A7-9007-3E5BA155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DF2-F87A-42F9-952E-A4DB1FB5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7D5-FE4C-4007-A36A-0B011B80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0D2-460A-4B96-9845-671D013B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BD5-827B-499A-B27C-7F0BB04F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FEA-8489-4766-B8FD-9F45363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468-4825-488B-82A3-E3FFA443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FB9-64D8-408F-AC6F-79531EE7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484-94F7-4771-A79A-FCEA920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D89-012D-46AB-A63A-8491A55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32F-A1FA-4E1D-9649-F0AA84354C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251080" y="1971720"/>
            <a:ext cx="4892760" cy="321768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" descr=""/>
          <p:cNvPicPr/>
          <p:nvPr/>
        </p:nvPicPr>
        <p:blipFill>
          <a:blip r:embed="rId2"/>
          <a:stretch/>
        </p:blipFill>
        <p:spPr>
          <a:xfrm>
            <a:off x="2266920" y="1123920"/>
            <a:ext cx="4956120" cy="89388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90000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1811880" y="871200"/>
            <a:ext cx="5489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军同学做事拖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引用下面的谚语写几句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正缺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事情宜早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越早越好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拖拖拉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完没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468360" y="2852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军同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情宜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越早越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拖拖拉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完没了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事不拖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提高了效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培养了好习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一举两得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题考查考生的劝说能力。解答时注意三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要有称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引用所给谚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要指明拖拉的危害或不拖拉的好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语言的委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250920" y="97992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级采风小组到王岭村搜集歇后语。请你根据下面的示意图写一段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告诉同学们怎样从学校前往目的地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以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age20-1.jpg" descr="id:2147502658;FounderCES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1954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95280" y="4561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示例一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从学校出发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直往东到十里铺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再往东北到染坊村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然后往北不远就是王岭村。示例二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从学校出发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直向前到十里铺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左转到染坊村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再沿着向北的路走就能到王岭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仔细观察示意图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发现从学校到王岭村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必经十里铺和染坊村。而十里铺在学校的正东方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而染坊村又在十里铺东北方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王岭村在染坊村的正北方。答题时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需要根据方向标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指明行走方向。表述格式为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沿着……向前走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走到……位置时向右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或向左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拐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然后再向北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或向南、或向东、或向西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走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就能走到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2142000" y="218880"/>
            <a:ext cx="54471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二、阅读理解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    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智慧与大自然的智慧相比实在是相形见绌。无论是令人厌恶的苍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蚊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是美丽可人的鲜花绿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论是高深莫测的星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是不值一提的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大自然精巧绝伦的艺术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展示出大自然深邃、高超的智慧。大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用“死”的物质创造了这样丰富多彩的生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人类却不能制造出一个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怕是最简单的生物。就目前所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本身就是自然智慧的最高体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她最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的作品之一。人体共有一万亿多个细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么多的细胞不仅能够相互协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每个细胞都有着与众不同的特殊分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个细胞都有其特定的工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绝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混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而使整个人体处于高度有序的状态。在近百年的时间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胞尽管更替许多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这种秩序并不会改变。最不可思议的恐怕要数我们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脑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使人有喜怒哀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够思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够理解、想象。大自然也很“懂得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学原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创造各种物质以至人体的时候运用了各种美的规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如对称性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调性等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人体、花朵等表现出难以形容的美。要造出这样的一个人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一万亿个细胞协调工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类的智慧所不能胜任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712440" y="1030320"/>
            <a:ext cx="557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下列加点字注音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混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 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胜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相形见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出本段的中心句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797120" y="400644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段写人体细胞协作工作的精巧细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何用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(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61128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　　第一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684360" y="450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人体为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致描述人体的精巧、复杂和细致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动具体又有力地体现了大自然无与伦比的智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1442880" y="155736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suì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4865760" y="170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/>
          <p:cNvSpPr/>
          <p:nvPr/>
        </p:nvSpPr>
        <p:spPr>
          <a:xfrm>
            <a:off x="1410840" y="220500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è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5366160" y="227664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形标注 10"/>
          <p:cNvSpPr/>
          <p:nvPr/>
        </p:nvSpPr>
        <p:spPr>
          <a:xfrm>
            <a:off x="1403280" y="3429000"/>
            <a:ext cx="1584360" cy="504720"/>
          </a:xfrm>
          <a:prstGeom prst="wedgeEllipseCallout">
            <a:avLst>
              <a:gd name="adj1" fmla="val 68370"/>
              <a:gd name="adj2" fmla="val -906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标注 11"/>
          <p:cNvSpPr/>
          <p:nvPr/>
        </p:nvSpPr>
        <p:spPr>
          <a:xfrm>
            <a:off x="539640" y="4508640"/>
            <a:ext cx="7632720" cy="1368360"/>
          </a:xfrm>
          <a:prstGeom prst="wedgeRectCallout">
            <a:avLst>
              <a:gd name="adj1" fmla="val 3749"/>
              <a:gd name="adj2" fmla="val -546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2"/>
          <p:cNvSpPr/>
          <p:nvPr/>
        </p:nvSpPr>
        <p:spPr>
          <a:xfrm>
            <a:off x="1042920" y="206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3"/>
          <p:cNvSpPr/>
          <p:nvPr/>
        </p:nvSpPr>
        <p:spPr>
          <a:xfrm>
            <a:off x="4284720" y="2133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4"/>
          <p:cNvSpPr/>
          <p:nvPr/>
        </p:nvSpPr>
        <p:spPr>
          <a:xfrm>
            <a:off x="4932360" y="2637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5"/>
          <p:cNvSpPr/>
          <p:nvPr/>
        </p:nvSpPr>
        <p:spPr>
          <a:xfrm>
            <a:off x="755640" y="2637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1661400" y="1311120"/>
            <a:ext cx="18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概括本段段意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190040" y="2425680"/>
            <a:ext cx="354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大自然的力量和智慧的赞颂。大自然的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造化是人类智慧目前远不能达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标注 4"/>
          <p:cNvSpPr/>
          <p:nvPr/>
        </p:nvSpPr>
        <p:spPr>
          <a:xfrm>
            <a:off x="539640" y="2133720"/>
            <a:ext cx="7920000" cy="1871640"/>
          </a:xfrm>
          <a:prstGeom prst="wedgeRoundRectCallout">
            <a:avLst>
              <a:gd name="adj1" fmla="val -5541"/>
              <a:gd name="adj2" fmla="val -6118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250920" y="173268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独特性           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丹东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人口分布在世界各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在过去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年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估计共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人口在地球上生息过。每个人都会是独一无二的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生命科学对人体认识的日益深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个体的独特性被越来越多地揭示出来。那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个体的独特性和不可取代性究竟表现在哪里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的独特性首先体现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脱氧核糖核酸。它是人体所有遗传信息的原始备份。人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包含有大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个碱基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在基因上显示出的差异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5%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5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意味着大约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个碱基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们的组合数则更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任何人都没有机会和你的基因完全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468360" y="267408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隐藏在体内的基因相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更多的是从长相来确定他人是谁。对熟悉的人我们辨别的准确率可以达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6%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对不熟悉的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率只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6%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好在有新的研究显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人们并没有局限于只依赖长相识别人。美国研究人员发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们的大脑还非常善于综合收集身体信息。当人的面孔被遮挡或者因距离太远而看不清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脑会通过身体的信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个头和身材来识别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效果通常很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④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长相相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纹似乎更加可靠。他们的形态更能显示人的独特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指纹一直被用来确认一个人的身份。指纹的形成除了受基因的控制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受其他因素的影响。例如子宫内的压力和羊水的晃动都可能会影响胎儿指纹的形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意味着即使是同卵双胞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们的指纹也不会完全一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1896840" y="1467720"/>
            <a:ext cx="56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显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个人在走动的时候都有不同的步态。早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们就已经意识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态足以帮助我们辨别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且准确率至少可以达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耳朵的形状也非常独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仅每个人不一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使是同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只耳朵也各不相同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美国和荷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出现过根据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朵留下的“耳纹”破获案件的实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4"/>
          <p:cNvSpPr/>
          <p:nvPr/>
        </p:nvSpPr>
        <p:spPr>
          <a:xfrm>
            <a:off x="4140360" y="4221000"/>
            <a:ext cx="431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5"/>
          <p:cNvSpPr/>
          <p:nvPr/>
        </p:nvSpPr>
        <p:spPr>
          <a:xfrm>
            <a:off x="684360" y="4797360"/>
            <a:ext cx="446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324000" y="1109520"/>
            <a:ext cx="9034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⑦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学家用心电图记录人的心跳就能得到人们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的独特电脉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这种独特性也可以用于识别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份。据说苹果公司就曾尝试将心跳作为一种密码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保护隐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有这一切都证明你是唯一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人可以取代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亘古至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地间只出现了一个现在的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样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前没有发生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也不会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6672600" y="5590440"/>
            <a:ext cx="16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原文有改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2137680" y="1414440"/>
            <a:ext cx="21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2.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文第①段有什么作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?(4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539640" y="2205000"/>
            <a:ext cx="806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了人类个体具有独特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代说明对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出下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题考查说明文中重点段落的作用。说明文中开头段落一般起到引出说明对象或者说明中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读者阅读兴趣的作用。具体解答时要注意结合文章内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简单套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标注 4"/>
          <p:cNvSpPr/>
          <p:nvPr/>
        </p:nvSpPr>
        <p:spPr>
          <a:xfrm>
            <a:off x="395280" y="2205000"/>
            <a:ext cx="8424720" cy="3960720"/>
          </a:xfrm>
          <a:prstGeom prst="wedgeRoundRectCallout">
            <a:avLst>
              <a:gd name="adj1" fmla="val 5101"/>
              <a:gd name="adj2" fmla="val -5500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2771640" y="750240"/>
            <a:ext cx="40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　满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328760" y="1461960"/>
            <a:ext cx="713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、积累与运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下面加点的字注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拼音写出汉字并改正句中的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字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这里的建筑布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气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前几部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iǒng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不同。亭台楼阁、池馆水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掩映在青松翠柏之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山怪石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坛盆景、滕萝翠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缀其间。来到这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佛进入苏州园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气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jiǒng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别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1697400" y="4797360"/>
            <a:ext cx="7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f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708440" y="486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491560" y="53737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滕                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9"/>
          <p:cNvSpPr/>
          <p:nvPr/>
        </p:nvSpPr>
        <p:spPr>
          <a:xfrm>
            <a:off x="4067280" y="3645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2077560" y="871200"/>
            <a:ext cx="4761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⑥段画线句子“在美国和荷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出现过根据耳朵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的‘耳纹’破获案件的实例”运用了哪种说明方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(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395280" y="2637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举例子。　具体有力地说明了耳朵的形状也非常独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能删去。　“至少”是不少于的意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起限制作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说明步态足以帮助我们辨别一个人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且准确率不少于或超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%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去掉之后就变成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90%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了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太绝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与事实不符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体现了说明文语言的准确性、严密性、科学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2058480" y="321408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⑤段加点词语“至少”能否删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什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(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标注 5"/>
          <p:cNvSpPr/>
          <p:nvPr/>
        </p:nvSpPr>
        <p:spPr>
          <a:xfrm>
            <a:off x="324000" y="2565360"/>
            <a:ext cx="8351640" cy="576360"/>
          </a:xfrm>
          <a:prstGeom prst="wedgeRoundRectCallout">
            <a:avLst>
              <a:gd name="adj1" fmla="val -1925"/>
              <a:gd name="adj2" fmla="val -7768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标注 6"/>
          <p:cNvSpPr/>
          <p:nvPr/>
        </p:nvSpPr>
        <p:spPr>
          <a:xfrm>
            <a:off x="395280" y="3716280"/>
            <a:ext cx="8569440" cy="2305080"/>
          </a:xfrm>
          <a:prstGeom prst="wedgeRoundRectCallout">
            <a:avLst>
              <a:gd name="adj1" fmla="val 3143"/>
              <a:gd name="adj2" fmla="val -5397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2100960" y="952920"/>
            <a:ext cx="512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选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文章是从哪六个方面介绍人体的独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468360" y="227664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NA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脱氧核糖核酸、基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长相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步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耳朵的形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对说明文主要内容的概括。概括说明文的主要内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除了可以和记叙文一样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关注首尾段外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还可以通过每一段的首句进行概括提取。多数说明文的段落有中心句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概括这一段的说明内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再进行详细说明。所以我们可以抓住这一特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逐段进行判断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是否为说明对象的一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标注 4"/>
          <p:cNvSpPr/>
          <p:nvPr/>
        </p:nvSpPr>
        <p:spPr>
          <a:xfrm>
            <a:off x="324000" y="2276640"/>
            <a:ext cx="8424720" cy="3889080"/>
          </a:xfrm>
          <a:prstGeom prst="wedgeRoundRectCallout">
            <a:avLst>
              <a:gd name="adj1" fmla="val -1300"/>
              <a:gd name="adj2" fmla="val -5516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2169000" y="1171800"/>
            <a:ext cx="526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中说“所有这一切都证明你是唯一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人可以取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”。人体的独特性除了用来破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具有哪些功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即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合理想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871720" y="3009600"/>
            <a:ext cx="366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(1)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可以用指纹开门开锁。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用脸谱签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题考查拓展延伸。说明文的拓展延伸要以科学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为前提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要以想象丰富为发展。所以我们根据现有科技发展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寻找根据人的独特性出现的产品、功能等。如指纹锁、脸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到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标注 4"/>
          <p:cNvSpPr/>
          <p:nvPr/>
        </p:nvSpPr>
        <p:spPr>
          <a:xfrm>
            <a:off x="468360" y="2997360"/>
            <a:ext cx="8496360" cy="2952720"/>
          </a:xfrm>
          <a:prstGeom prst="wedgeRoundRectCallout">
            <a:avLst>
              <a:gd name="adj1" fmla="val 5569"/>
              <a:gd name="adj2" fmla="val -5735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2126520" y="1006200"/>
            <a:ext cx="51318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三、写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下面的文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要求作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十里不同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里不同俗。民俗是人类文明积淀中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重要的组成部分。民俗文化是一幅社会风俗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斑斓多彩的人文风景线。中华民族地域辽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族有各自的民风民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来让人眼界大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请你以“家乡的民俗”为话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一篇文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6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右。题目自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体自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1906920" y="1004400"/>
            <a:ext cx="558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写作导航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材个性化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宫有故宫的气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城有长城的雄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戏剧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戏剧的曲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吆喝有吆喝的味道。民俗文化饶有情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写作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材上要凸显个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落入大众化的思想中。即所要写作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俗文化要有特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与其他民俗文化有明显的差异和个性特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描写细腻化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如介绍民间舞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用场面描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面结合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活动的热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刻画一个民间艺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运用外貌描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摹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物的个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一处建筑或名胜的介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运用景物描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景物之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工艺制作的介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可以详细地写出其过程与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611280" y="1823040"/>
            <a:ext cx="8353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情感真挚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谁不爱自己的祖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谁不爱自己的家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对灿若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辰的民俗文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所表现出来的应该是自豪和骄傲。在写作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还可以针对民俗的发展提些合理化的建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也是热爱优秀民间文化的一种体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2331000" y="683280"/>
            <a:ext cx="49323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④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体多样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如介绍我们熟悉的长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写一篇抒情性散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真情实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如介绍家乡的戏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写一篇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究性的论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谈所了解的关于这种戏剧的渊源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、名家名角、经典剧目、发展建议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如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景名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写一篇说明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翔实的数据和平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语言来再现景观的独特之处。文体只是文章的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表现形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为文章的内容服务的。可以根据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己的优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合适的文体来表现民俗民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109240" y="1212120"/>
            <a:ext cx="543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句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点成语使用不恰当的一项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要因地制宜发展适合本地特色的产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盲目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宫的建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我惊叹不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能设计得如此巧妙绝伦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的长城是世界建筑史上独一无二的奇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中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民智慧和血汗的结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草们俯仰生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繁盛茂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826920" y="4653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俯仰生姿”常用来形容有高有矮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成各种美好的姿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对角圆角矩形 4"/>
          <p:cNvSpPr/>
          <p:nvPr/>
        </p:nvSpPr>
        <p:spPr>
          <a:xfrm>
            <a:off x="684360" y="4724280"/>
            <a:ext cx="7920000" cy="1081080"/>
          </a:xfrm>
          <a:custGeom>
            <a:avLst/>
            <a:gdLst/>
            <a:ahLst/>
            <a:rect l="l" t="t" r="r" b="b"/>
            <a:pathLst>
              <a:path w="7920880" h="1080120">
                <a:moveTo>
                  <a:pt x="180023" y="0"/>
                </a:moveTo>
                <a:lnTo>
                  <a:pt x="7920880" y="0"/>
                </a:lnTo>
                <a:lnTo>
                  <a:pt x="7920880" y="0"/>
                </a:lnTo>
                <a:lnTo>
                  <a:pt x="7920880" y="900096"/>
                </a:lnTo>
                <a:cubicBezTo>
                  <a:pt x="7920880" y="999520"/>
                  <a:pt x="7840281" y="1080119"/>
                  <a:pt x="7740857" y="1080119"/>
                </a:cubicBezTo>
                <a:lnTo>
                  <a:pt x="0" y="1080120"/>
                </a:lnTo>
                <a:lnTo>
                  <a:pt x="0" y="1080120"/>
                </a:lnTo>
                <a:lnTo>
                  <a:pt x="0" y="180023"/>
                </a:lnTo>
                <a:cubicBezTo>
                  <a:pt x="0" y="80599"/>
                  <a:pt x="80599" y="0"/>
                  <a:pt x="18002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538400" y="1341360"/>
            <a:ext cx="48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6"/>
          <p:cNvSpPr/>
          <p:nvPr/>
        </p:nvSpPr>
        <p:spPr>
          <a:xfrm>
            <a:off x="2050920" y="234936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7"/>
          <p:cNvSpPr/>
          <p:nvPr/>
        </p:nvSpPr>
        <p:spPr>
          <a:xfrm>
            <a:off x="2411280" y="234936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8"/>
          <p:cNvSpPr/>
          <p:nvPr/>
        </p:nvSpPr>
        <p:spPr>
          <a:xfrm>
            <a:off x="2700360" y="234936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9"/>
          <p:cNvSpPr/>
          <p:nvPr/>
        </p:nvSpPr>
        <p:spPr>
          <a:xfrm>
            <a:off x="2987640" y="2349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0"/>
          <p:cNvSpPr/>
          <p:nvPr/>
        </p:nvSpPr>
        <p:spPr>
          <a:xfrm>
            <a:off x="6875640" y="2852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1"/>
          <p:cNvSpPr/>
          <p:nvPr/>
        </p:nvSpPr>
        <p:spPr>
          <a:xfrm>
            <a:off x="7740720" y="2852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2"/>
          <p:cNvSpPr/>
          <p:nvPr/>
        </p:nvSpPr>
        <p:spPr>
          <a:xfrm>
            <a:off x="7164360" y="2852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3"/>
          <p:cNvSpPr/>
          <p:nvPr/>
        </p:nvSpPr>
        <p:spPr>
          <a:xfrm>
            <a:off x="7451640" y="285264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4"/>
          <p:cNvSpPr/>
          <p:nvPr/>
        </p:nvSpPr>
        <p:spPr>
          <a:xfrm>
            <a:off x="4859280" y="342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5"/>
          <p:cNvSpPr/>
          <p:nvPr/>
        </p:nvSpPr>
        <p:spPr>
          <a:xfrm>
            <a:off x="5148360" y="342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6"/>
          <p:cNvSpPr/>
          <p:nvPr/>
        </p:nvSpPr>
        <p:spPr>
          <a:xfrm>
            <a:off x="5508720" y="3429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7"/>
          <p:cNvSpPr/>
          <p:nvPr/>
        </p:nvSpPr>
        <p:spPr>
          <a:xfrm>
            <a:off x="5796000" y="342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8"/>
          <p:cNvSpPr/>
          <p:nvPr/>
        </p:nvSpPr>
        <p:spPr>
          <a:xfrm>
            <a:off x="2050920" y="450864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9"/>
          <p:cNvSpPr/>
          <p:nvPr/>
        </p:nvSpPr>
        <p:spPr>
          <a:xfrm>
            <a:off x="2987640" y="450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0"/>
          <p:cNvSpPr/>
          <p:nvPr/>
        </p:nvSpPr>
        <p:spPr>
          <a:xfrm>
            <a:off x="2700360" y="450864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21"/>
          <p:cNvSpPr/>
          <p:nvPr/>
        </p:nvSpPr>
        <p:spPr>
          <a:xfrm>
            <a:off x="2411280" y="450864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179280" y="1069200"/>
            <a:ext cx="9721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黄冈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次填入下面文段横线处的语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衔接最恰当的一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在我国古代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们盛物用的器皿除陶器等之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一种容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葫芦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早的记载见于《诗经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《公刘》篇中“酌之用匏”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匏”就是指葫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葫芦做容器是先民们认识自然、利用自然的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葫芦是一种葫芦科爬藤植物的果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葫芦成熟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掏空里面的籽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可当容器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大多呈哑铃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面小下面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劳动人民使用葫芦盛物的历史非常悠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⑥②③⑤④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⑥①④②③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⑤③④①⑥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③⑤④⑥①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395280" y="5013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句序的排列要符合人们的认识规律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紧承第一句话中的“是葫芦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接着应先介绍葫芦作为一种植物的特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那则是③⑤句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然后接着介绍它是一种“容器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种按照认识葫芦再到利用葫芦的顺序符合人们的认知规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对角圆角矩形 4"/>
          <p:cNvSpPr/>
          <p:nvPr/>
        </p:nvSpPr>
        <p:spPr>
          <a:xfrm>
            <a:off x="250920" y="4869000"/>
            <a:ext cx="8497800" cy="1439640"/>
          </a:xfrm>
          <a:custGeom>
            <a:avLst/>
            <a:gdLst/>
            <a:ahLst/>
            <a:rect l="l" t="t" r="r" b="b"/>
            <a:pathLst>
              <a:path w="8496944" h="1440160">
                <a:moveTo>
                  <a:pt x="240031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1200128"/>
                </a:lnTo>
                <a:cubicBezTo>
                  <a:pt x="8496944" y="1332693"/>
                  <a:pt x="8389478" y="1440159"/>
                  <a:pt x="8256913" y="1440159"/>
                </a:cubicBezTo>
                <a:lnTo>
                  <a:pt x="0" y="1440160"/>
                </a:lnTo>
                <a:lnTo>
                  <a:pt x="0" y="1440160"/>
                </a:lnTo>
                <a:lnTo>
                  <a:pt x="0" y="240031"/>
                </a:lnTo>
                <a:cubicBezTo>
                  <a:pt x="0" y="107466"/>
                  <a:pt x="107466" y="0"/>
                  <a:pt x="24003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8039160" y="10526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1894680" y="1215360"/>
            <a:ext cx="5807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随州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句子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点符号使用有误的一项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腐不仅要惩治于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应预防于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仅需达到“不敢腐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腐”的效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需激发“不想腐”“不愿腐”的自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央电视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推出的政论片《劳动铸就中国梦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鼓舞士气的宣传作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递出中国人民实现伟大民族复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梦的劳动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NB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决赛正如火如荼地进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球迷们都在纷纷竞猜骑士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勇士队谁能夺得总冠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下新媒体以自己强大的冲击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出了众多的引人注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星——歌星、舞星、体坛明星、政坛风云人物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900000" y="5516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句末的问号应改为句号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1700280" y="1628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对角圆角矩形 5"/>
          <p:cNvSpPr/>
          <p:nvPr/>
        </p:nvSpPr>
        <p:spPr>
          <a:xfrm>
            <a:off x="611280" y="5373720"/>
            <a:ext cx="8208720" cy="647640"/>
          </a:xfrm>
          <a:custGeom>
            <a:avLst/>
            <a:gdLst/>
            <a:ahLst/>
            <a:rect l="l" t="t" r="r" b="b"/>
            <a:pathLst>
              <a:path w="8208912" h="648072">
                <a:moveTo>
                  <a:pt x="108014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540057"/>
                </a:lnTo>
                <a:cubicBezTo>
                  <a:pt x="8208912" y="599711"/>
                  <a:pt x="8160552" y="648071"/>
                  <a:pt x="8100898" y="648071"/>
                </a:cubicBezTo>
                <a:lnTo>
                  <a:pt x="0" y="648072"/>
                </a:lnTo>
                <a:lnTo>
                  <a:pt x="0" y="648072"/>
                </a:lnTo>
                <a:lnTo>
                  <a:pt x="0" y="108014"/>
                </a:lnTo>
                <a:cubicBezTo>
                  <a:pt x="0" y="48360"/>
                  <a:pt x="48360" y="0"/>
                  <a:pt x="10801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084400" y="725040"/>
            <a:ext cx="493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宁夏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据下面所给的两个信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介绍中国的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统节日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龙舟　粽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324000" y="1844640"/>
            <a:ext cx="864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端午节为每年农历五月初五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这一天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们赛龙舟、吃粽子、佩香囊、喝雄黄酒等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来纪念爱国诗人屈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考查综合实践能力。“龙舟”和“粽子”都是我国民间纪念伟大诗人屈原的仪式。屈原因被楚怀王流放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见到民间疾苦和楚国的日益衰落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满怀悲愤地投汨罗江而亡。人们为了纪念他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五月初五这一天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赛龙舟、吃粽子、佩香囊、悬艾叶菖蒲等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纪念爱国诗人屈原。①要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农历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端午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纪念我国伟大爱国诗人屈原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语意连贯完整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情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语言生动连贯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2190960" y="752400"/>
            <a:ext cx="4811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学常识填空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中国石拱桥》的作者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苏镇江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。他主持修建了钱塘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路、铁路两用桥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苏州园林》的作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绍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现代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编辑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创作的童话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    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被人们广为传诵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3952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中国桥梁学    　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079960" y="141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茅以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60680" y="328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叶圣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1311120" y="4005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作家　      教育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954000" y="3933720"/>
            <a:ext cx="7265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代英雄的石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1892520" y="790920"/>
            <a:ext cx="570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安徽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年级某班以“走近民间文学艺术之谚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歇后语”为主题开展综合实践活动。活动中有一些问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与解决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雪同学为班级黑板报写了一段文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帮她修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中华民族制造了丰富多彩的民间文学艺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谚语和歇后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其中的两朵奇葩。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谚语能增强语言的表达效果和分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形象、生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歇后语幽默、风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增强语言的感染力。它们是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语言的精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们喜闻乐用的语言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处画线句中有用词不当的语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将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为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755640" y="5084640"/>
            <a:ext cx="69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制造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创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bzpj.jpg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27640" cy="576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2477160" y="909000"/>
            <a:ext cx="23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处画线句与下句语序不一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调整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684360" y="148428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谚语形象、生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能增强语言的表达效果和分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此题考查病句修改及语序调整。修改病句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关键是先学会甄别语病。解答第①题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以先提取句子主干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而找出搭配不当的词语。该句主干为“中华民族制造文学艺术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很明显“制造”与“文学艺术”不搭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制造”可以替换成“创造”。解答第②题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要分析“歇后语幽默、风趣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能增强语言的感染力”一句的结构。该句先概括歇后语的特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然后说其功用。据此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知画线句调整为“谚语形象、生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能增强语言的表达效果和分量”较为合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3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